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22A7D5-492D-4374-BC38-3DDDF9021809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2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4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6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7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AE49-6F17-4258-A9CD-3C4D4A54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6A9-4B5D-481F-95B5-E943D2C93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0DF-04D0-48AD-A49D-FD4DB998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E698-743F-4422-AE3E-7DB2E954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5F1-A190-4EBC-90EF-266EC0B1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9F8-3AA5-4DA8-85E5-01DD208A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323-5753-4BB5-A76E-BD4B4C59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9A6-CAFF-48A8-AA58-91C3B7E8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F59-CBCC-484B-B0C5-130D386F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271-CBF3-4BE4-A104-1FAB0260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E34A-D5AE-4DAB-9898-706710D1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C07F-7377-4405-BC36-BD989B7F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11AE7-0192-40B7-9100-7A12B0EB8C22}" type="slidenum">
              <a:rPr b="0" lang="fi-FI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ocial ex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cial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exclusion, or marginalization, is hardly measurable multi-dimensional phenomenon or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erm ”social exclusion” is not accurate or measurable. So how to get to the point? Using inaccurate terms leads to inaccurate nonsensetalk (and nonsensework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Aspects of social ex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3600" y="17283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Impacts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Leads to unequal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Transfer from parents to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Is connected to many problems: criminality, addictions, poor education, pover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Social exclusion of invidual, family, minorit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ocial determinants of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ere are social factors which impacts the health of inviduals. These factors are sometimes called </a:t>
            </a: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social determinants of health, SDOH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We may simple say, that </a:t>
            </a: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social exclusion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 is one of these key facto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ome other determinants are, for example, unemployment, stress, addictions and early life circumstan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SDOH in Finland: 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561680"/>
            <a:ext cx="6913440" cy="18939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Roughly 10k children on cus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- 3500 emergency placements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96960" y="2989440"/>
            <a:ext cx="736596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From them to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3600" spc="-1" strike="noStrike">
                <a:solidFill>
                  <a:srgbClr val="000000"/>
                </a:solidFill>
                <a:latin typeface="Arial"/>
              </a:rPr>
              <a:t>How to move toward social inclu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3600" spc="-1" strike="noStrike">
                <a:solidFill>
                  <a:srgbClr val="000000"/>
                </a:solidFill>
                <a:latin typeface="Arial"/>
              </a:rPr>
              <a:t>1. Working toward better SDO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i-FI" sz="3600" spc="-1" strike="noStrike">
                <a:solidFill>
                  <a:srgbClr val="000000"/>
                </a:solidFill>
                <a:latin typeface="Arial"/>
              </a:rPr>
              <a:t>2. Working toward 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From ”us” to ”the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800" spc="-1" strike="noStrike">
                <a:solidFill>
                  <a:srgbClr val="000000"/>
                </a:solidFill>
                <a:latin typeface="Arial"/>
              </a:rPr>
              <a:t>-  Is there possibility for meaningfull participation on societ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Who are ”them” in Finland 2018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2876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ose unemployed persons, those who needs activ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ose 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ylum seekers, those who are looking for social benefi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ose romani peopples, those one with just wrong hab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Those with addictions, the week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Name your own target? Can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One invidual point of view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560240"/>
            <a:ext cx="9067680" cy="585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f you would be on wheelchair, could you participate on this course? </a:t>
            </a: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f you would be really stupid, could you participate on this course? </a:t>
            </a: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n reality, stupidity is a key factor on social exclusion. But we can not talk about it. We even do not have neutral term for stupid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As conclusion, society should be form in such a way, that also stupid inviduals have possibility for meaningfull participation on society. </a:t>
            </a:r>
            <a:r>
              <a:rPr b="0" i="1" lang="fi-FI" sz="3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8000"/>
          </a:bodyPr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Multi-dimensional = moniulotte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Social exclusion = syrjäytym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Determinant = määräävä tekijä, vaikut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Inaccurate = epätark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articipation = osallistuminen, osallisu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Phenomenon = ilmi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Conclusion = johtopäätö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Arial"/>
              </a:rPr>
              <a:t>Glossary = sana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7:56:56Z</dcterms:created>
  <dc:creator/>
  <dc:description/>
  <dc:language>en-US</dc:language>
  <cp:lastModifiedBy/>
  <dcterms:modified xsi:type="dcterms:W3CDTF">2018-02-18T12:07:57Z</dcterms:modified>
  <cp:revision>13</cp:revision>
  <dc:subject/>
  <dc:title/>
</cp:coreProperties>
</file>